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871-A48A-4936-8616-E917F119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497-682B-4176-B973-2D39AC6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62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AF5-C132-4116-9F28-9B64396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49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47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CA3-6307-41A7-AD58-8EA2A004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B7A-2DA1-4DF4-B5B9-9EB674F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B02-B9E5-4B4B-8C8B-4CD6CD4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AED-CCF0-433F-A910-515D3ED3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137-4E28-49A9-9670-164A0D8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288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7AE-55D6-438D-B540-9A415C7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4BB-3AD7-4D7C-9261-670649C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62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A16-DAA0-40ED-98D9-2A0CC027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3EF-D12C-4126-B139-FB31016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C06-F8F6-44C0-9619-128D4B0E4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It is draw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8080" y="2583000"/>
            <a:ext cx="1616040" cy="1121040"/>
            <a:chOff x="3718080" y="2583000"/>
            <a:chExt cx="1616040" cy="1121040"/>
          </a:xfrm>
        </p:grpSpPr>
        <p:sp>
          <p:nvSpPr>
            <p:cNvPr id="80" name=""/>
            <p:cNvSpPr/>
            <p:nvPr/>
          </p:nvSpPr>
          <p:spPr>
            <a:xfrm>
              <a:off x="3718080" y="3002040"/>
              <a:ext cx="13129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H - F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8080" y="2583000"/>
              <a:ext cx="777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6160" y="2583000"/>
              <a:ext cx="777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33920" y="2133720"/>
            <a:ext cx="1295280" cy="380880"/>
            <a:chOff x="3733920" y="2133720"/>
            <a:chExt cx="1295280" cy="380880"/>
          </a:xfrm>
        </p:grpSpPr>
        <p:sp>
          <p:nvSpPr>
            <p:cNvPr id="84" name=""/>
            <p:cNvSpPr/>
            <p:nvPr/>
          </p:nvSpPr>
          <p:spPr>
            <a:xfrm>
              <a:off x="3733920" y="232416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2133720"/>
              <a:ext cx="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ich Molecules Have Them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y two atom molecule with a polar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th three or more atoms there are two considera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must be a polar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ometry can cancel it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near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64280" y="244476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7760" y="244476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21280" y="2139840"/>
            <a:ext cx="1130040" cy="11304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24280" y="3352680"/>
            <a:ext cx="1219320" cy="349200"/>
            <a:chOff x="4724280" y="3352680"/>
            <a:chExt cx="1219320" cy="349200"/>
          </a:xfrm>
        </p:grpSpPr>
        <p:sp>
          <p:nvSpPr>
            <p:cNvPr id="94" name=""/>
            <p:cNvSpPr/>
            <p:nvPr/>
          </p:nvSpPr>
          <p:spPr>
            <a:xfrm>
              <a:off x="4724280" y="3527280"/>
              <a:ext cx="1219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0280" y="3352680"/>
              <a:ext cx="0" cy="349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428640" y="3352680"/>
            <a:ext cx="1219320" cy="349200"/>
            <a:chOff x="3428640" y="3352680"/>
            <a:chExt cx="1219320" cy="349200"/>
          </a:xfrm>
        </p:grpSpPr>
        <p:sp>
          <p:nvSpPr>
            <p:cNvPr id="97" name=""/>
            <p:cNvSpPr/>
            <p:nvPr/>
          </p:nvSpPr>
          <p:spPr>
            <a:xfrm flipH="1">
              <a:off x="3428640" y="3527280"/>
              <a:ext cx="1219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32320" y="3352680"/>
              <a:ext cx="0" cy="349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lanar triangl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760" y="3359160"/>
            <a:ext cx="901800" cy="9018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6560" y="316872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9880" y="3168720"/>
            <a:ext cx="520560" cy="520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21200" y="4197240"/>
            <a:ext cx="520920" cy="520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40000" y="4746600"/>
            <a:ext cx="349200" cy="1219320"/>
            <a:chOff x="2340000" y="4746600"/>
            <a:chExt cx="349200" cy="1219320"/>
          </a:xfrm>
        </p:grpSpPr>
        <p:sp>
          <p:nvSpPr>
            <p:cNvPr id="106" name=""/>
            <p:cNvSpPr/>
            <p:nvPr/>
          </p:nvSpPr>
          <p:spPr>
            <a:xfrm>
              <a:off x="2514600" y="47466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340000" y="4962600"/>
              <a:ext cx="3492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666880" y="4032360"/>
            <a:ext cx="1067040" cy="637920"/>
            <a:chOff x="2666880" y="4032360"/>
            <a:chExt cx="1067040" cy="637920"/>
          </a:xfrm>
        </p:grpSpPr>
        <p:sp>
          <p:nvSpPr>
            <p:cNvPr id="109" name=""/>
            <p:cNvSpPr/>
            <p:nvPr/>
          </p:nvSpPr>
          <p:spPr>
            <a:xfrm flipV="1">
              <a:off x="2666880" y="4032360"/>
              <a:ext cx="1067040" cy="590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1640" y="4365720"/>
              <a:ext cx="168480" cy="30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8960" y="4032360"/>
            <a:ext cx="1066680" cy="637920"/>
            <a:chOff x="1218960" y="4032360"/>
            <a:chExt cx="1066680" cy="637920"/>
          </a:xfrm>
        </p:grpSpPr>
        <p:sp>
          <p:nvSpPr>
            <p:cNvPr id="112" name=""/>
            <p:cNvSpPr/>
            <p:nvPr/>
          </p:nvSpPr>
          <p:spPr>
            <a:xfrm flipH="1" flipV="1">
              <a:off x="1218960" y="4032360"/>
              <a:ext cx="1066680" cy="590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012760" y="4365720"/>
              <a:ext cx="168120" cy="30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4760" y="3960000"/>
            <a:ext cx="1523880" cy="167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37" y="5548"/>
                </a:moveTo>
                <a:arcTo wR="10800" hR="10800" stAng="-1745728" swAng="7145728"/>
                <a:lnTo>
                  <a:pt x="10800" y="10800"/>
                </a:lnTo>
                <a:close/>
              </a:path>
              <a:path fill="none" w="21600" h="21600">
                <a:moveTo>
                  <a:pt x="20237" y="5548"/>
                </a:moveTo>
                <a:arcTo wR="10800" hR="10800" stAng="-1745728" swAng="7145728"/>
              </a:path>
            </a:pathLst>
          </a:custGeom>
          <a:noFill/>
          <a:ln cap="rnd"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9528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20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ree shapes will cancel them out.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trahed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4729320"/>
            <a:ext cx="444600" cy="403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4722480"/>
            <a:ext cx="2743200" cy="2062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933800" y="4552560"/>
            <a:ext cx="1603440" cy="15876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19600" y="4513320"/>
            <a:ext cx="1133280" cy="4204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7120" y="4637160"/>
            <a:ext cx="258840" cy="102240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160800"/>
            <a:ext cx="60480" cy="14302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0760" y="4311720"/>
            <a:ext cx="558720" cy="50796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2951280"/>
            <a:ext cx="1143000" cy="19778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33800" y="2965320"/>
            <a:ext cx="362160" cy="269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33800" y="2932200"/>
            <a:ext cx="1638360" cy="1809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295960" y="4722840"/>
            <a:ext cx="1257120" cy="936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760" y="2749680"/>
            <a:ext cx="444600" cy="404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809880" y="4928760"/>
            <a:ext cx="1471680" cy="700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3480" y="5456160"/>
            <a:ext cx="444600" cy="405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0960" y="4519440"/>
            <a:ext cx="444600" cy="4035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s don’t canc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2514600"/>
            <a:ext cx="444600" cy="444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3657600"/>
            <a:ext cx="444600" cy="444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4720" y="2757600"/>
            <a:ext cx="1130400" cy="11300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40560" y="2793600"/>
            <a:ext cx="987120" cy="732240"/>
            <a:chOff x="5740560" y="2793600"/>
            <a:chExt cx="987120" cy="732240"/>
          </a:xfrm>
        </p:grpSpPr>
        <p:sp>
          <p:nvSpPr>
            <p:cNvPr id="139" name=""/>
            <p:cNvSpPr/>
            <p:nvPr/>
          </p:nvSpPr>
          <p:spPr>
            <a:xfrm flipH="1">
              <a:off x="5740560" y="2808360"/>
              <a:ext cx="987120" cy="717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449760" y="2793600"/>
              <a:ext cx="206280" cy="282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62520" y="3922200"/>
            <a:ext cx="987120" cy="732240"/>
            <a:chOff x="5762520" y="3922200"/>
            <a:chExt cx="987120" cy="732240"/>
          </a:xfrm>
        </p:grpSpPr>
        <p:sp>
          <p:nvSpPr>
            <p:cNvPr id="142" name=""/>
            <p:cNvSpPr/>
            <p:nvPr/>
          </p:nvSpPr>
          <p:spPr>
            <a:xfrm flipH="1" flipV="1">
              <a:off x="5762520" y="3922200"/>
              <a:ext cx="987120" cy="717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472080" y="4371840"/>
              <a:ext cx="206280" cy="282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5562360" y="3733920"/>
            <a:ext cx="90324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9960" y="3581280"/>
            <a:ext cx="0" cy="304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72200" y="4572000"/>
            <a:ext cx="0" cy="9144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648320"/>
            <a:ext cx="2210040" cy="759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ometry and polar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s don’t canc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yramid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743200" y="4419720"/>
            <a:ext cx="1457280" cy="26352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7040" y="4419720"/>
            <a:ext cx="762120" cy="22860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690640" y="4419720"/>
            <a:ext cx="281160" cy="121608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7040" y="4044960"/>
            <a:ext cx="749520" cy="74916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4647960"/>
            <a:ext cx="1600200" cy="990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80720" y="4647960"/>
            <a:ext cx="685800" cy="990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1400" y="447984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1080" y="54165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4960" y="4502160"/>
            <a:ext cx="368280" cy="368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019920" y="4419720"/>
            <a:ext cx="1457280" cy="26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4120" y="4419720"/>
            <a:ext cx="761760" cy="2286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67360" y="4419720"/>
            <a:ext cx="128520" cy="121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449568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5486400"/>
            <a:ext cx="304560" cy="7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419720"/>
            <a:ext cx="7632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oms tend to react to form noble gas configuration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lose electrons to form ca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nmetals can share electrons in covalent bonds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r they can gain electrons to form an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ic Compou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ons align themselves to maximize attractions between opposite charges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to minimize repulsion between like 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stabilize ions that would be unstable as a g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act to achieve noble gas configur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066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(s) + ½F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NaF(s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rst sublime 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(s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10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onize Na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+ 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9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reak F-F Bo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½F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F(g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77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d electron to F       F(g) + e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-328 kJ/mo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a Bond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force that holds atoms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look at it in terms of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 energy is the energy required to break a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y are compounds formed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it gives the system the lowest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066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a(s) + ½F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(g)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NaF(s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attice energy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(s) + ½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NaF(s)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-928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ionic compound is considered any substance that conducts electricity when mel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so use the generic term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sal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Covalent Bon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tendency of atoms to achieve the lowest energ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1652 kJ to dissociate a mole of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its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each hydrogen is hooked to the carbon, we get the average energy = 413 k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 has 3 C-H, and 1 C - C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-Cl bond is 33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bond is a method of explaining the energy change associated with forming molecul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s don’t exist in nature, but are useful as a model of behavior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valent Bond Energ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7921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made some simplifications in describing the bond energy of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ach C-H bond has a different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53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3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H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425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 + 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 = 339 kJ/m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ocalized Electron Mode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4360" y="1220400"/>
            <a:ext cx="82281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lecule is composed of atoms that are bound together by sharing pairs of electrons using the atomic orbitals of the boun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 using Lewis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of geometry using VSE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0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the types of orbi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Lewis Struc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ws how the valence electrons are arrang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dot for each valence electr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ble compound has all its atoms with a noble gas configur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ydrogen follows the duet rule, Be the quartet, B the sext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est follow the octet ru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nding pair is the one between the symb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7900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 the valence electr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a pair to form a bond between each pair of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rrange the rest to fulfill the octet rule (except for H, Be and B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line can be used instead of a pai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om is commonly the central at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onic Bond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atom with a low ionization energy reacts with an atom with high electron affinit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 is transferr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posite charges hold the atoms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the octe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row and larger elements can exceed the oct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ause they use 3d orbit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xceptions to the octe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we must exceed the octet, extra electrons tend to go on central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e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1760" y="1066320"/>
            <a:ext cx="8312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re is more than one valid structure for an molecule or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ouble arrows to indicate it is the “average” of the stru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switch betwee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ized electron model is based on pairs of electrons, doesn’t deal with odd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al Char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371240"/>
            <a:ext cx="7900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molecules and polyatomic ions that exceed the octet there are several different structur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charges on atoms to help decide which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ying to use the oxidation numbers to put charges on atoms  in molecules doesn’t work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17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al Charg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fference between the number of valence electrons on the free atom and that assigned in the molecu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ount half the electrons in each bond as “belonging” to the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es try to achieve as low a formal charge as possi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egative formal charges should be on electronegative elemen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e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ulomb's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charges are opposite, energy change is nega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othermi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ame charge, positive E, requires energy to bring them toge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wis structures tell us how the atoms are connected to each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don’t tell us anything about shap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hape of a molecule can greatly affect its proper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ence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ll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ctron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ir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pulsion Theory allows us to predict geomet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es take a shape that puts electron pairs as far away from each other as possi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to draw the Lewis structure to determine electron pair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ing or nonbonding lone pai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ne pair take more spac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pairs determi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nd ang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derlying struct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mber of atoms determin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ctual sh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94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VSEP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6000" y="1127160"/>
            <a:ext cx="5929560" cy="1127880"/>
            <a:chOff x="396000" y="1127160"/>
            <a:chExt cx="5929560" cy="1127880"/>
          </a:xfrm>
        </p:grpSpPr>
        <p:sp>
          <p:nvSpPr>
            <p:cNvPr id="207" name=""/>
            <p:cNvSpPr/>
            <p:nvPr/>
          </p:nvSpPr>
          <p:spPr>
            <a:xfrm>
              <a:off x="396000" y="1127160"/>
              <a:ext cx="1766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pair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4800" y="1127160"/>
              <a:ext cx="150336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Bond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Angle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81680" y="1127160"/>
              <a:ext cx="22438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Underlyin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066680" y="2232000"/>
            <a:ext cx="4537080" cy="633960"/>
            <a:chOff x="1066680" y="2232000"/>
            <a:chExt cx="4537080" cy="633960"/>
          </a:xfrm>
        </p:grpSpPr>
        <p:sp>
          <p:nvSpPr>
            <p:cNvPr id="211" name=""/>
            <p:cNvSpPr/>
            <p:nvPr/>
          </p:nvSpPr>
          <p:spPr>
            <a:xfrm>
              <a:off x="1066680" y="22320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8280" y="2232000"/>
              <a:ext cx="1074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8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79880" y="225576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Linear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066680" y="2917800"/>
            <a:ext cx="6365880" cy="633960"/>
            <a:chOff x="1066680" y="2917800"/>
            <a:chExt cx="6365880" cy="633960"/>
          </a:xfrm>
        </p:grpSpPr>
        <p:sp>
          <p:nvSpPr>
            <p:cNvPr id="215" name=""/>
            <p:cNvSpPr/>
            <p:nvPr/>
          </p:nvSpPr>
          <p:spPr>
            <a:xfrm>
              <a:off x="1066680" y="29178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8280" y="2917800"/>
              <a:ext cx="1074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2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9880" y="294156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rigonal Planar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66680" y="3657600"/>
            <a:ext cx="6365880" cy="633960"/>
            <a:chOff x="1066680" y="3657600"/>
            <a:chExt cx="6365880" cy="633960"/>
          </a:xfrm>
        </p:grpSpPr>
        <p:sp>
          <p:nvSpPr>
            <p:cNvPr id="219" name=""/>
            <p:cNvSpPr/>
            <p:nvPr/>
          </p:nvSpPr>
          <p:spPr>
            <a:xfrm>
              <a:off x="1066680" y="365760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58280" y="3657600"/>
              <a:ext cx="1434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09.5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79880" y="368136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etrahedral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66680" y="4379760"/>
            <a:ext cx="6365880" cy="1152000"/>
            <a:chOff x="1066680" y="4379760"/>
            <a:chExt cx="6365880" cy="1152000"/>
          </a:xfrm>
        </p:grpSpPr>
        <p:sp>
          <p:nvSpPr>
            <p:cNvPr id="223" name=""/>
            <p:cNvSpPr/>
            <p:nvPr/>
          </p:nvSpPr>
          <p:spPr>
            <a:xfrm>
              <a:off x="1066680" y="462456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54400" y="4379760"/>
              <a:ext cx="124416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90° &amp;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12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9880" y="4403880"/>
              <a:ext cx="335268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Trigonal Bipyramidal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066680" y="5524560"/>
            <a:ext cx="6365880" cy="633960"/>
            <a:chOff x="1066680" y="5524560"/>
            <a:chExt cx="6365880" cy="633960"/>
          </a:xfrm>
        </p:grpSpPr>
        <p:sp>
          <p:nvSpPr>
            <p:cNvPr id="227" name=""/>
            <p:cNvSpPr/>
            <p:nvPr/>
          </p:nvSpPr>
          <p:spPr>
            <a:xfrm>
              <a:off x="1066680" y="5524560"/>
              <a:ext cx="424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56000" y="5548320"/>
              <a:ext cx="838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90°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9880" y="5548320"/>
              <a:ext cx="3352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Octahedro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009960"/>
            <a:ext cx="213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619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529596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pyra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8294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582948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300996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al bipyri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19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-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ctual Sha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185904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1371600"/>
            <a:ext cx="1676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Bonding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2346480"/>
            <a:ext cx="167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3009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00996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3619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619440"/>
            <a:ext cx="388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Pyram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22928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422928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Pla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476244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762440"/>
            <a:ext cx="335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-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295960"/>
            <a:ext cx="1066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5295960"/>
            <a:ext cx="3656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f no central atom…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predict the geometry of each ang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ild it piece by piec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ell does it work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dictions are almost always accurat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ut, like all simple models, it has excep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tomic Orbitals Don’t Wor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explain molecular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methane, CH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the shape is tetrahedra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valence electrons of carbon should be  two in s, and two in p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p orbitals would have to be at right angl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tomic orbitals change when making a molecul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338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about covalent compounds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s in each atom are attracted to the nucleus of the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lectrons repel each other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nuclei repel each othe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y reach a distance with the lowest possible energ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distance between is the bond length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two things come off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s and one p hybridiz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594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 up with two lobes 180º apar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 orbitals are at right ang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s room for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s and two sigma bon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triple bond or two double bon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en three things come off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20º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3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e bond acts as one pai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igonal plana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ve to end up with three blende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 one s and two p orbitals to make 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ves one p orbital perpendicular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blend the s and p orbitals of the valence electrons and end up with the tetrahedral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ombine one s orbital and 3 p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ybridization has tetrahedral geometr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we get to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365960" cy="46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e geometry from experi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e orbital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izing atomic orbitals can explain the geome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f the geometry requires a tetrahedral shape, it is s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ybrid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bent and trigonal pyramidal molecules because one of the s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bes holds the lone p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9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55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hybridiz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odel predicts that we must use the d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3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 hybridizat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ex: PCl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onal bipyrimid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n only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o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an’t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o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asic shape for five bond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p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4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16640" cy="337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ts us to six bonds arou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ctahed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wo types of Bond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gma bonds from overlap of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tween the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 bond (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bond) above and below atom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etween adjacent p orbital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wo bonds of a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e bon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3560" y="1674360"/>
            <a:ext cx="6191280" cy="127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can make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two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 can make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on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30160" y="2895480"/>
            <a:ext cx="5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3120" y="2895480"/>
            <a:ext cx="588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44200" y="2895480"/>
            <a:ext cx="588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12408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35268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3352680"/>
            <a:ext cx="381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67080" y="2911320"/>
            <a:ext cx="171360" cy="196920"/>
            <a:chOff x="2467080" y="2911320"/>
            <a:chExt cx="171360" cy="196920"/>
          </a:xfrm>
        </p:grpSpPr>
        <p:sp>
          <p:nvSpPr>
            <p:cNvPr id="339" name=""/>
            <p:cNvSpPr/>
            <p:nvPr/>
          </p:nvSpPr>
          <p:spPr>
            <a:xfrm>
              <a:off x="2560680" y="2911320"/>
              <a:ext cx="77760" cy="7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67080" y="30304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66360" y="3455280"/>
            <a:ext cx="198000" cy="176040"/>
            <a:chOff x="2466360" y="3455280"/>
            <a:chExt cx="198000" cy="176040"/>
          </a:xfrm>
        </p:grpSpPr>
        <p:sp>
          <p:nvSpPr>
            <p:cNvPr id="342" name=""/>
            <p:cNvSpPr/>
            <p:nvPr/>
          </p:nvSpPr>
          <p:spPr>
            <a:xfrm rot="5460000">
              <a:off x="2584080" y="3551040"/>
              <a:ext cx="7920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60000">
              <a:off x="2467080" y="3456000"/>
              <a:ext cx="7920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16440" y="2924280"/>
            <a:ext cx="196920" cy="171360"/>
            <a:chOff x="4816440" y="2924280"/>
            <a:chExt cx="196920" cy="171360"/>
          </a:xfrm>
        </p:grpSpPr>
        <p:sp>
          <p:nvSpPr>
            <p:cNvPr id="345" name=""/>
            <p:cNvSpPr/>
            <p:nvPr/>
          </p:nvSpPr>
          <p:spPr>
            <a:xfrm>
              <a:off x="4816440" y="29242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35600" y="301788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39480" y="3444120"/>
            <a:ext cx="176040" cy="198360"/>
            <a:chOff x="4839480" y="3444120"/>
            <a:chExt cx="176040" cy="198360"/>
          </a:xfrm>
        </p:grpSpPr>
        <p:sp>
          <p:nvSpPr>
            <p:cNvPr id="348" name=""/>
            <p:cNvSpPr/>
            <p:nvPr/>
          </p:nvSpPr>
          <p:spPr>
            <a:xfrm rot="60000">
              <a:off x="4935600" y="3444480"/>
              <a:ext cx="7920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60000">
              <a:off x="4840200" y="3561840"/>
              <a:ext cx="7956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rons are shared by ato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polar bonds the electrons are not shared evenl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end is slightly positive, the other negativ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dicated using small delta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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ability of an atom to attract shared electrons to itself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nds to increase left to righ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reases as you go down a group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ble gases aren’t part of i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fference in electronegativity between atoms tells us how polar bond i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5160" y="579600"/>
            <a:ext cx="3571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ega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01320" y="579600"/>
            <a:ext cx="133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o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6000" y="1951200"/>
            <a:ext cx="106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120" y="3322800"/>
            <a:ext cx="260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3320" y="4923000"/>
            <a:ext cx="129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438280"/>
            <a:ext cx="0" cy="9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886200"/>
            <a:ext cx="0" cy="106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9080" y="1951200"/>
            <a:ext cx="190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va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19080" y="2438280"/>
            <a:ext cx="1901160" cy="1723320"/>
            <a:chOff x="3619080" y="2438280"/>
            <a:chExt cx="1901160" cy="1723320"/>
          </a:xfrm>
        </p:grpSpPr>
        <p:sp>
          <p:nvSpPr>
            <p:cNvPr id="69" name=""/>
            <p:cNvSpPr/>
            <p:nvPr/>
          </p:nvSpPr>
          <p:spPr>
            <a:xfrm>
              <a:off x="3619080" y="3094200"/>
              <a:ext cx="1901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Polar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Coval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760" y="2438280"/>
              <a:ext cx="0" cy="6098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003200" y="4267080"/>
            <a:ext cx="1132920" cy="1235880"/>
            <a:chOff x="4003200" y="4267080"/>
            <a:chExt cx="1132920" cy="1235880"/>
          </a:xfrm>
        </p:grpSpPr>
        <p:sp>
          <p:nvSpPr>
            <p:cNvPr id="72" name=""/>
            <p:cNvSpPr/>
            <p:nvPr/>
          </p:nvSpPr>
          <p:spPr>
            <a:xfrm>
              <a:off x="4003200" y="492300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Ion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8760" y="4267080"/>
              <a:ext cx="0" cy="68580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492880" y="539640"/>
            <a:ext cx="3111480" cy="5550120"/>
          </a:xfrm>
          <a:prstGeom prst="downArrow">
            <a:avLst>
              <a:gd name="adj1" fmla="val 50000"/>
              <a:gd name="adj2" fmla="val 3003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474080" y="2254680"/>
            <a:ext cx="5128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valent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onic Character in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ipole Mom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molecule with a center of negative charge and a center of positive charge is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dipolar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(two poles)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lso called a 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dipole mome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enter of charge doesn’t have to be on an ato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 line up in the presence of an electric fiel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1T00:04:32Z</dcterms:created>
  <dc:creator/>
  <dc:description/>
  <cp:keywords/>
  <dc:language>en-US</dc:language>
  <cp:lastModifiedBy>FPS</cp:lastModifiedBy>
  <dcterms:modified xsi:type="dcterms:W3CDTF">2007-11-02T15:05:45Z</dcterms:modified>
  <cp:revision>26</cp:revision>
  <dc:subject/>
  <dc:title>Chapter 8</dc:title>
</cp:coreProperties>
</file>